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20A-2648-4C53-962C-D8AACEBF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B6C2-33A7-4763-A7BD-432AC99F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B7B-DD9C-4500-9CD0-E1599A80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78D-863A-4071-B6B8-E9F8B7AF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C63-CCD9-4339-A25E-FCA50316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432F-EBE1-47E6-A0F7-DEA965A1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5D2-9421-4CEB-84BD-01BD3A09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CEC-2C9A-422E-BCA6-43F706C4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119-0A19-4D9C-81A0-B9C1D7E0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321-189C-4B44-9ABF-B7838088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0B92-34DB-4ABE-BD69-0B192AFD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E55B-CE74-4B4A-94B0-5CB0BE18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89EA-5A15-44D0-B75D-C459DCC3AA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нтура – специальность – дата защиты кандидатской диссер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обучения в докторантуре (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научные результаты за последние 3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ласти критических технологий и приоритетных направлений фундаментальных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ия, патен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графии, учебники, 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хранных документов на объекты промышленной собственности и 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али, премии, дипломы конференций, конкурсов, выставок (в т.ч. в качестве научного руковод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подготовка аспирантов, кандидатов наук за последние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совершенствования учебного процесса (учебные пособия, методические указания, методики препода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14:48Z</dcterms:created>
  <dc:creator>Мухамедзянова</dc:creator>
  <dc:description/>
  <dc:language>en-US</dc:language>
  <cp:lastModifiedBy>Наука</cp:lastModifiedBy>
  <dcterms:modified xsi:type="dcterms:W3CDTF">2009-03-27T07:06:17Z</dcterms:modified>
  <cp:revision>12</cp:revision>
  <dc:subject/>
  <dc:title>О себе (возраст, школа, ВУЗ, аспирантура  - специальность, докторантура - специальность)</dc:title>
</cp:coreProperties>
</file>