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17F9-CEAC-41AE-A396-982ADC4D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1D7-04BF-4EFA-BCE6-4E43CDE3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086F-E4C4-4A20-9030-0A5BBC8D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3A78-00F3-4337-AFEA-65FF4730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3AFE-2603-4680-ACBF-19D115C6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A30-DED4-4678-A668-81A81CAA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A2A-A8F0-4F19-9E75-0419F26D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615-3599-4BC9-B437-B902B3A3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555-8BC7-4802-A3D9-10C5A654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9C8D-1308-4293-AF8D-ACF0B58C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840-D635-4C16-9559-1B263C64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A5FC-0352-4AB9-8866-80BF19BE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2EB3-294E-4614-B147-E3DBCFC22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антура – специальность – дата защиты кандидатской диссер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 обучения в докторантуре (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й 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научные результаты за последние 3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ласти критических технологий и приоритетных направлений фундаментальных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ия, патен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ографии, учебники, 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хранных документов на объекты промышленной собственности и объекты авторск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али, премии, дипломы конференций, конкурсов, выставок (в т.ч. в качестве научного руковод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подготовка аспирантов, кандидатов наук за последние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совершенствования учебного процесса (учебные пособия, методические указания, методики препода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3:14:48Z</dcterms:created>
  <dc:creator>Мухамедзянова</dc:creator>
  <dc:description/>
  <dc:language>en-US</dc:language>
  <cp:lastModifiedBy>Наука</cp:lastModifiedBy>
  <dcterms:modified xsi:type="dcterms:W3CDTF">2009-03-27T07:06:17Z</dcterms:modified>
  <cp:revision>12</cp:revision>
  <dc:subject/>
  <dc:title>О себе (возраст, школа, ВУЗ, аспирантура  - специальность, докторантура - специальность)</dc:title>
</cp:coreProperties>
</file>