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6DF4-E625-4DF7-9CC1-7571371E0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C0FE-DA4A-4EF4-AEFE-8D5293DF9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F54A-B791-4774-A921-622D2C70F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3F81-6A06-4264-A500-3388A3EB6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6CA7-8451-410B-904F-B18786148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658B-8BA9-4B2A-AF35-E5F11A0F7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C473-A996-4CE4-B435-BF1C19883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CB0C-EC74-4C7B-ADA4-18C984D2F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1CB1-DD1C-4414-A638-2308038C7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7F71-5F6A-4C6C-8C0D-B6142218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D54B-F352-400B-9A00-8E9F3419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7978-DB27-48C1-9017-8D220566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1CFA3-2043-46A7-9EF8-D72629639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Краткая информация о кандидате на государственную премию Красноярского кр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та ро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разование (вуз - специальнос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рок обучения в аспирантуре (год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ласть научных интере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щее количество публика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учный руковод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Научная иде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анируемая научная новиз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Дост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иболее значимые публикации в изданиях центральной печати, перечня ВАК ( в т.ч. за рубежо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едрение и использование результатов научных разработок на территории края (акты о внедрении, патенты, лицензирование, коммерциализац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ие в проектах, грантах, соруководство НИР и ОКР по договора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Дост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дали и дипломы конференций, конкур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рганизационные и коммуникативные умения (организация семинаров, конференций, симпозиумов, руководство НИР студентов и т.д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астие в инновационных конкурсах и проек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Планы на будуще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анируемые научные результ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деи и формы реализации научных разработок в интересах социально-экономического развития к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полагаемый карьерный р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мер: за предложенный (способ, метод, идею) … расширения (реализации) энергетического диапазона…, отличающийся…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278100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улировка в  одном предложении за какую собственную идею вы достойны государственной премии Красноярского к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3T02:54:14Z</dcterms:created>
  <dc:creator>Мухамедзянова</dc:creator>
  <dc:description/>
  <dc:language>en-US</dc:language>
  <cp:lastModifiedBy>Наука</cp:lastModifiedBy>
  <dcterms:modified xsi:type="dcterms:W3CDTF">2009-03-27T07:01:57Z</dcterms:modified>
  <cp:revision>12</cp:revision>
  <dc:subject/>
  <dc:title>О себе (возраст, школа, ВУЗ, специальность)</dc:title>
</cp:coreProperties>
</file>