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E97-A2E2-4951-A5EA-7A7F9ADF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9D89-9906-425E-AB77-CFEE78DE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6797-C8DB-4033-BE4A-668986BB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9C40-D85F-45A6-9B06-E10A5E11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A076-E7A5-4860-BF89-B5696CA5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0D8-8E1D-4628-A424-B10DB866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0A6-F812-4CD1-8FAA-5FF61721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6961-FD60-45CC-BC61-F58CD3FB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F3D-0B9C-40E9-A4AD-28EC642C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50E-D3E6-4F7C-A0B3-094772A9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474-A84B-43AF-AFA2-066CF31E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98A-F3A7-43CE-9C37-2C6B7CDA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66D0-7244-46B1-8D0F-35D96249C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обучения в аспирантуре (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значимые публикации в изданиях центральной печати, перечня ВАК ( в т.ч. за рубеж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и использование результатов научных разработок на территории края (акты о внедрении, патенты, лицензирование, коммерциал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али и дипломы конференций,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руководство НИР студенто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инновационных конкурсах и про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2:54:14Z</dcterms:created>
  <dc:creator>Мухамедзянова</dc:creator>
  <dc:description/>
  <dc:language>en-US</dc:language>
  <cp:lastModifiedBy>Наука</cp:lastModifiedBy>
  <dcterms:modified xsi:type="dcterms:W3CDTF">2009-03-27T07:01:57Z</dcterms:modified>
  <cp:revision>12</cp:revision>
  <dc:subject/>
  <dc:title>О себе (возраст, школа, ВУЗ, специальность)</dc:title>
</cp:coreProperties>
</file>