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36AA-F935-45B8-9ABC-F00D6CC7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E4F0-A4A8-42AB-826E-28A6E2AE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5AEC-5062-4A1E-94B5-2B573CB4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9F98-885D-4C76-8EEE-17CE1D12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A6BD-BEA5-4708-8948-F393757E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F0F4-3E5E-4664-B488-5586B3CF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0E94-22EC-4E9F-B9AA-BB8C2215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E26C-3B4B-4667-B80F-FCEAFEF1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5F9A-79B6-4382-896D-FD3B6235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F10D-607D-41CE-920D-C5FC5DB5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6CB2-26F1-4715-B732-727AC5CA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76A-2C12-4649-984B-6A18D59F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039B-91A5-4E90-8C8E-A6C6D5544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ок обучения в аспирантуре (г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й руко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значимые публикации в изданиях центральной печати, перечня ВАК ( в т.ч. за рубеж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дрение и использование результатов научных разработок на территории края (акты о внедрении, патенты, лицензирование, коммерциализ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али и дипломы конференций, конк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руководство НИР студентов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стие в инновационных конкурсах и прое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2:54:14Z</dcterms:created>
  <dc:creator>Мухамедзянова</dc:creator>
  <dc:description/>
  <dc:language>en-US</dc:language>
  <cp:lastModifiedBy>Наука</cp:lastModifiedBy>
  <dcterms:modified xsi:type="dcterms:W3CDTF">2009-03-27T07:01:57Z</dcterms:modified>
  <cp:revision>12</cp:revision>
  <dc:subject/>
  <dc:title>О себе (возраст, школа, ВУЗ, специальность)</dc:title>
</cp:coreProperties>
</file>