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AF16-8A5D-409B-AAA8-12EFFCB4E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76CD-F6A1-4D13-BA72-91F88F27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6799-B4EF-4816-B95A-E81E163E1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E69A-4198-4CDF-B5D6-8235B92AA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D563-6145-48E0-A028-5757E73D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2D97-EC4B-4FD1-A342-A1AA91CD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71BD-4A6A-4608-85E1-F229D84C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ECB2-96E9-4AEA-87FF-74836E7C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6A75-4EE2-4E67-9998-E8099C93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15C9-A3BE-4310-AB37-E42FDDAB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3C1E-8F0E-4F94-B276-890884F6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F4D3-273F-4F01-B6E5-5BE8535A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A1D9-0B90-424B-9250-F09A097067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раткая информация о кандидате на государственную премию Красноярского к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зование (вуз - специальнос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спирантура – специальность – дата защиты кандидатской диссер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ок обучения в докторантуре (г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ласть научных интере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ее количество публик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учный консуль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Научная ид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ая научная новиз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ые научные результаты за последние 3 го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бласти критических технологий и приоритетных направлений фундаментальных исследо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крытия, патенты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нографии, учебники, стат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личие охранных документов на объекты промышленной собственности и объекты авторского 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али, премии, дипломы конференций, конкурсов, выставок (в т.ч. в качестве научного руководител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онные и коммуникативные умения (организация семинаров, конференций, симпозиумов, подготовка аспирантов, кандидатов наук за последние 5 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проектах, грантах, соруководство НИР и ОКР по договор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ы совершенствования учебного процесса (учебные пособия, методические указания, методики преподав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ланы на будущ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ые науч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и и формы реализации научных разработок в интересах социально-экономического развития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ый карьерный р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р: за предложенный (способ, метод, идею) … расширения (реализации) энергетического диапазона…, отличающийся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ировка в  одном предложении за какую собственную идею вы достойны государственной премии Красноярского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03:14:48Z</dcterms:created>
  <dc:creator>Мухамедзянова</dc:creator>
  <dc:description/>
  <dc:language>en-US</dc:language>
  <cp:lastModifiedBy>Наука</cp:lastModifiedBy>
  <dcterms:modified xsi:type="dcterms:W3CDTF">2009-03-27T07:06:17Z</dcterms:modified>
  <cp:revision>12</cp:revision>
  <dc:subject/>
  <dc:title>О себе (возраст, школа, ВУЗ, аспирантура  - специальность, докторантура - специальность)</dc:title>
</cp:coreProperties>
</file>