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BF36-C965-4C2C-920D-0A3BA624E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0623-D5B1-4DF6-81C4-F6A3A23A4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9852-E4EE-4FAF-A920-F8E7A41BB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2F3E-3ED5-4FF8-8BC7-9C59F3835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2116-BA1B-4ADE-A641-BE17A0E40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B526-7E42-47CE-8B6E-FA888967D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5546-F3E6-48F4-9E3A-542100885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D166-9962-48FE-BED4-0AE16565B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D358-5ADA-49CD-BAF0-A7215F14D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1C42-FDFE-467A-8D16-8665C57CE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A41D-B162-46F4-929D-D1FAB057D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4CD6-CAA1-490F-BD3E-BFD04F512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5DCD7-B7C1-4E54-920B-7F3834F1B5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Краткая информация о кандидате на государственную премию Красноярского кр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ата рож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разование (вуз - специальност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рок обучения в аспирантуре (год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ласть научных интере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щее количество публикац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учный руковод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Научная иде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ктуа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ланируемая научная новиз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Дости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иболее значимые публикации в изданиях центральной печати, перечня ВАК ( в т.ч. за рубежо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недрение и использование результатов научных разработок на территории края (акты о внедрении, патенты, лицензирование, коммерциализац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астие в проектах, грантах, соруководство НИР и ОКР по договора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Дости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дали и дипломы конференций, конкур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рганизационные и коммуникативные умения (организация семинаров, конференций, симпозиумов, руководство НИР студентов и т.д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астие в инновационных конкурсах и проект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Планы на будуще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ланируемые научные результ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деи и формы реализации научных разработок в интересах социально-экономического развития кр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полагаемый карьерный р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мер: за предложенный (способ, метод, идею) … расширения (реализации) энергетического диапазона…, отличающийся…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278100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рмулировка в  одном предложении за какую собственную идею вы достойны государственной премии Красноярского кр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3T02:54:14Z</dcterms:created>
  <dc:creator>Мухамедзянова</dc:creator>
  <dc:description/>
  <dc:language>en-US</dc:language>
  <cp:lastModifiedBy>Наука</cp:lastModifiedBy>
  <dcterms:modified xsi:type="dcterms:W3CDTF">2009-03-27T07:01:57Z</dcterms:modified>
  <cp:revision>12</cp:revision>
  <dc:subject/>
  <dc:title>О себе (возраст, школа, ВУЗ, специальность)</dc:title>
</cp:coreProperties>
</file>